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8BC-30AB-472F-A73C-A6728915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9AE-EC60-4244-A79A-2F8F021A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286-917B-4661-BC34-B9505F8D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85A-9521-48B2-9AB2-4DDD54C4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965-9F01-465E-BC9C-2D54AC0E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465-A71E-4795-AC3A-F01F2E37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F06-0F3C-4956-8485-FA74CE21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982-555C-46DE-86CE-B69207D2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DB9-9E72-48D0-83EB-6F9867D4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0ED-446A-4A51-98BD-417B4C1D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8D3-0B2F-4408-ADA4-899AEE7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7C3-1732-4189-970C-8285A381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20B2-BAB9-4CF8-B034-DCCFB09FC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achersteachingteachers.org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upport.apple.com/kb/HT2510?viewlocale=en_US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0"/>
          <p:cNvSpPr/>
          <p:nvPr/>
        </p:nvSpPr>
        <p:spPr>
          <a:xfrm>
            <a:off x="2362320" y="51055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InaiMathi"/>
              </a:rPr>
              <a:t>where on earth did i come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3"/>
          <p:cNvSpPr/>
          <p:nvPr/>
        </p:nvSpPr>
        <p:spPr>
          <a:xfrm>
            <a:off x="304920" y="30492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Podcasting </a:t>
            </a:r>
            <a:r>
              <a:rPr b="0" lang="en-US" sz="8000" spc="-1" strike="noStrike">
                <a:solidFill>
                  <a:srgbClr val="000000"/>
                </a:solidFill>
                <a:latin typeface="InaiMathi"/>
              </a:rPr>
              <a:t>1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Elbow Connector 17"/>
          <p:cNvCxnSpPr/>
          <p:nvPr/>
        </p:nvCxnSpPr>
        <p:spPr>
          <a:xfrm>
            <a:off x="456840" y="1447560"/>
            <a:ext cx="3886920" cy="373428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Libriv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yndiAndGoatHerder.jpg"/>
          <p:cNvPicPr/>
          <p:nvPr/>
        </p:nvPicPr>
        <p:blipFill>
          <a:blip r:embed="rId2"/>
          <a:stretch/>
        </p:blipFill>
        <p:spPr>
          <a:xfrm>
            <a:off x="7083360" y="530280"/>
            <a:ext cx="1573200" cy="1792080"/>
          </a:xfrm>
          <a:prstGeom prst="rect">
            <a:avLst/>
          </a:prstGeom>
          <a:ln w="0">
            <a:noFill/>
          </a:ln>
        </p:spPr>
      </p:pic>
      <p:sp>
        <p:nvSpPr>
          <p:cNvPr id="89" name="Line Callout 1 (Border and Accent Bar) 7"/>
          <p:cNvSpPr/>
          <p:nvPr/>
        </p:nvSpPr>
        <p:spPr>
          <a:xfrm>
            <a:off x="4876920" y="1752480"/>
            <a:ext cx="2590560" cy="152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45" y="2517"/>
                </a:moveTo>
                <a:lnTo>
                  <a:pt x="-1684" y="8753"/>
                </a:lnTo>
              </a:path>
              <a:path w="21600" h="21600">
                <a:moveTo>
                  <a:pt x="-1684" y="0"/>
                </a:moveTo>
                <a:lnTo>
                  <a:pt x="-1684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876920" y="1905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InaiMathi"/>
              </a:rPr>
              <a:t>That says it all:  Acoustical liberation of books in the public domai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TeachersTeachingTeach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3" descr=""/>
          <p:cNvPicPr/>
          <p:nvPr/>
        </p:nvPicPr>
        <p:blipFill>
          <a:blip r:embed="rId1"/>
          <a:stretch/>
        </p:blipFill>
        <p:spPr>
          <a:xfrm>
            <a:off x="407880" y="2097000"/>
            <a:ext cx="8620200" cy="73188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4" descr=""/>
          <p:cNvPicPr/>
          <p:nvPr/>
        </p:nvPicPr>
        <p:blipFill>
          <a:blip r:embed="rId2"/>
          <a:stretch/>
        </p:blipFill>
        <p:spPr>
          <a:xfrm>
            <a:off x="407880" y="2706840"/>
            <a:ext cx="7871040" cy="73152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5" descr=""/>
          <p:cNvPicPr/>
          <p:nvPr/>
        </p:nvPicPr>
        <p:blipFill>
          <a:blip r:embed="rId3"/>
          <a:stretch/>
        </p:blipFill>
        <p:spPr>
          <a:xfrm>
            <a:off x="426960" y="3316320"/>
            <a:ext cx="7540560" cy="73188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6" descr=""/>
          <p:cNvPicPr/>
          <p:nvPr/>
        </p:nvPicPr>
        <p:blipFill>
          <a:blip r:embed="rId4"/>
          <a:stretch/>
        </p:blipFill>
        <p:spPr>
          <a:xfrm>
            <a:off x="407880" y="3925800"/>
            <a:ext cx="776628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7" descr=""/>
          <p:cNvPicPr/>
          <p:nvPr/>
        </p:nvPicPr>
        <p:blipFill>
          <a:blip r:embed="rId5"/>
          <a:stretch/>
        </p:blipFill>
        <p:spPr>
          <a:xfrm>
            <a:off x="407880" y="5065560"/>
            <a:ext cx="836460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1143000" y="1219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InaiMathi"/>
              </a:rPr>
              <a:t>how on earth do you go about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04920" y="304920"/>
            <a:ext cx="32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Wow!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10"/>
          <p:cNvSpPr/>
          <p:nvPr/>
        </p:nvSpPr>
        <p:spPr>
          <a:xfrm>
            <a:off x="3278160" y="988920"/>
            <a:ext cx="5180040" cy="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11"/>
          <p:cNvSpPr/>
          <p:nvPr/>
        </p:nvSpPr>
        <p:spPr>
          <a:xfrm flipV="1">
            <a:off x="8456760" y="992160"/>
            <a:ext cx="288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12"/>
          <p:cNvSpPr/>
          <p:nvPr/>
        </p:nvSpPr>
        <p:spPr>
          <a:xfrm>
            <a:off x="8155080" y="1522440"/>
            <a:ext cx="304560" cy="32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Audic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Audac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Mixcraft4.JPG"/>
          <p:cNvPicPr/>
          <p:nvPr/>
        </p:nvPicPr>
        <p:blipFill>
          <a:blip r:embed="rId1"/>
          <a:stretch/>
        </p:blipFill>
        <p:spPr>
          <a:xfrm>
            <a:off x="380880" y="1325520"/>
            <a:ext cx="7696440" cy="538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304920" y="-152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naiMathi"/>
              </a:rPr>
              <a:t>At </a:t>
            </a:r>
            <a:r>
              <a:rPr b="0" lang="en-US" sz="7200" spc="-1" strike="noStrike">
                <a:solidFill>
                  <a:srgbClr val="000000"/>
                </a:solidFill>
                <a:latin typeface="InaiMathi"/>
              </a:rPr>
              <a:t>long last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04920" y="6858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InaiMathi"/>
              </a:rPr>
              <a:t>something similar to GarageBand for PC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GarageBandMac1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143000" y="990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InaiMathi"/>
              </a:rPr>
              <a:t>C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04920" y="76320"/>
            <a:ext cx="327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Work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33520" y="1676520"/>
            <a:ext cx="81532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ammersley Articl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www.guardian.co.uk/media/2004/feb/12/broadcasting.digital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Zencas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www.zencast.com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Marketing Loop Podcast Marketing &amp;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podcastingscout.com/podcasting-gloss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Scholastic Profession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teacher.scholastic.com/products/scholasticprofessional/authors/podcasts.htm#1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iTun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www.apple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Librivox Public Domain free audiobooks to listen to online or downlo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www.librivox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Podcasting’s relevance for today’s classro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schoolsyte.com/podcasting-tutorial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Free serialized books, delivered on your schedule (also available on iTune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www.podiobooks.co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Everything you could possibly want to know about anyt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teachersteachingteachers.or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Streetside Stories in San Francisco, the Storytelling Exchange, from San Francisco public schoo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www.streetside.org/stories/digital-stories.ht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Get great Mac 101:GarageBand tutor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www.support.apple.com/kb/HT2510?viewlocale=en_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Zenca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Line Callout 1 (Border and Accent Bar) 5"/>
          <p:cNvSpPr/>
          <p:nvPr/>
        </p:nvSpPr>
        <p:spPr>
          <a:xfrm>
            <a:off x="5105520" y="2971800"/>
            <a:ext cx="213336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181480" y="3048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naiMathi"/>
              </a:rPr>
              <a:t>According to Creative Labs’s Zencast.com 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3"/>
          <p:cNvSpPr/>
          <p:nvPr/>
        </p:nvSpPr>
        <p:spPr>
          <a:xfrm>
            <a:off x="76320" y="152280"/>
            <a:ext cx="807696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InaiMathi"/>
              </a:rPr>
              <a:t>P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InaiMathi"/>
              </a:rPr>
              <a:t>O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InaiMathi"/>
              </a:rPr>
              <a:t>D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609480" y="685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InaiMathi"/>
              </a:rPr>
              <a:t>.ersona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990720" y="232092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InaiMathi"/>
              </a:rPr>
              <a:t>.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914400" y="399744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InaiMathi"/>
              </a:rPr>
              <a:t>.eman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7"/>
          <p:cNvSpPr/>
          <p:nvPr/>
        </p:nvSpPr>
        <p:spPr>
          <a:xfrm>
            <a:off x="152280" y="505944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InaiMathi"/>
              </a:rPr>
              <a:t>Broad.</a:t>
            </a:r>
            <a:r>
              <a:rPr b="1" lang="en-US" sz="9600" spc="-1" strike="noStrike">
                <a:solidFill>
                  <a:srgbClr val="000000"/>
                </a:solidFill>
                <a:latin typeface="InaiMathi"/>
              </a:rPr>
              <a:t>CASTING</a:t>
            </a:r>
            <a:r>
              <a:rPr b="0" lang="en-US" sz="9600" spc="-1" strike="noStrike">
                <a:solidFill>
                  <a:srgbClr val="ff0000"/>
                </a:solidFill>
                <a:latin typeface="InaiMath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enHammersleyPortrait2006.jpg"/>
          <p:cNvPicPr/>
          <p:nvPr/>
        </p:nvPicPr>
        <p:blipFill>
          <a:blip r:embed="rId1"/>
          <a:stretch/>
        </p:blipFill>
        <p:spPr>
          <a:xfrm>
            <a:off x="4475160" y="-225360"/>
            <a:ext cx="4187880" cy="6827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5105520" y="5638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f7f7f"/>
                </a:solidFill>
                <a:latin typeface="InaiMathi"/>
              </a:rPr>
              <a:t>the guar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33520" y="38862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InaiMathi"/>
              </a:rPr>
              <a:t>Hammersle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228600" y="32004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Be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Callout 1 (Border and Accent Bar) 12"/>
          <p:cNvSpPr/>
          <p:nvPr/>
        </p:nvSpPr>
        <p:spPr>
          <a:xfrm flipH="1">
            <a:off x="914400" y="457200"/>
            <a:ext cx="327672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41" y="1579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1143000" y="685800"/>
            <a:ext cx="28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InaiMathi"/>
              </a:rPr>
              <a:t>I’m a bit of a bloke, see, an’ no ZenCas’ in gonna tell ME wha’ I said, now are the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HammersleyArtic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BenHammersleyPortrait2006.jpg"/>
          <p:cNvPicPr/>
          <p:nvPr/>
        </p:nvPicPr>
        <p:blipFill>
          <a:blip r:embed="rId2"/>
          <a:stretch/>
        </p:blipFill>
        <p:spPr>
          <a:xfrm>
            <a:off x="4492800" y="1212840"/>
            <a:ext cx="2298600" cy="2378160"/>
          </a:xfrm>
          <a:prstGeom prst="rect">
            <a:avLst/>
          </a:prstGeom>
          <a:ln w="0">
            <a:noFill/>
          </a:ln>
        </p:spPr>
      </p:pic>
      <p:sp>
        <p:nvSpPr>
          <p:cNvPr id="60" name="Line Callout 1 (Border and Accent Bar) 7"/>
          <p:cNvSpPr/>
          <p:nvPr/>
        </p:nvSpPr>
        <p:spPr>
          <a:xfrm>
            <a:off x="4191120" y="3200400"/>
            <a:ext cx="281916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41" y="1579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extBox 8" descr=""/>
          <p:cNvPicPr/>
          <p:nvPr/>
        </p:nvPicPr>
        <p:blipFill>
          <a:blip r:embed="rId3"/>
          <a:stretch/>
        </p:blipFill>
        <p:spPr>
          <a:xfrm>
            <a:off x="4211640" y="3249720"/>
            <a:ext cx="27925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knowItunesPodcast.mp3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0"/>
          <p:cNvSpPr/>
          <p:nvPr/>
        </p:nvSpPr>
        <p:spPr>
          <a:xfrm>
            <a:off x="380880" y="1371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InaiMathi"/>
              </a:rPr>
              <a:t>how can podcasts be us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304920" y="3049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So, then . . .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464832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InaiMathi"/>
              </a:rPr>
              <a:t>in the classro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2755080" y="2666880"/>
            <a:ext cx="65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InaiMathi"/>
              </a:rPr>
              <a:t>effectivel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769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iTun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yndiAndGoatHerder.jpg"/>
          <p:cNvPicPr/>
          <p:nvPr/>
        </p:nvPicPr>
        <p:blipFill>
          <a:blip r:embed="rId2"/>
          <a:stretch/>
        </p:blipFill>
        <p:spPr>
          <a:xfrm>
            <a:off x="1292400" y="4645080"/>
            <a:ext cx="1573200" cy="179208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Border and Accent Bar) 10"/>
          <p:cNvSpPr/>
          <p:nvPr/>
        </p:nvSpPr>
        <p:spPr>
          <a:xfrm>
            <a:off x="3276720" y="3276720"/>
            <a:ext cx="259056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00" y="22898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429000" y="33526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InaiMathi"/>
              </a:rPr>
              <a:t>Does anyone still NOT know about iTunes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Callout 1 (Border and Accent Bar) 14"/>
          <p:cNvSpPr/>
          <p:nvPr/>
        </p:nvSpPr>
        <p:spPr>
          <a:xfrm>
            <a:off x="3581280" y="4343400"/>
            <a:ext cx="182880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492" y="17411"/>
                </a:moveTo>
                <a:lnTo>
                  <a:pt x="-1923" y="15024"/>
                </a:lnTo>
              </a:path>
              <a:path w="21600" h="21600">
                <a:moveTo>
                  <a:pt x="-1923" y="0"/>
                </a:moveTo>
                <a:lnTo>
                  <a:pt x="-1923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3657600" y="441972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InaiMathi"/>
              </a:rPr>
              <a:t>Just in cas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InaiMathi"/>
              </a:rPr>
              <a:t>let’s check 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InaiMathi"/>
              </a:rPr>
              <a:t>out . .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Ink 3"/>
          <p:cNvSpPr/>
          <p:nvPr/>
        </p:nvSpPr>
        <p:spPr>
          <a:xfrm>
            <a:off x="270000" y="5981760"/>
            <a:ext cx="1288800" cy="179280"/>
          </a:xfrm>
          <a:custGeom>
            <a:avLst/>
            <a:gdLst/>
            <a:ahLst/>
            <a:rect l="l" t="t" r="r" b="b"/>
            <a:pathLst>
              <a:path w="3581" h="501">
                <a:moveTo>
                  <a:pt x="916" y="16906"/>
                </a:moveTo>
                <a:lnTo>
                  <a:pt x="1114" y="16906"/>
                </a:lnTo>
                <a:lnTo>
                  <a:pt x="1365" y="16921"/>
                </a:lnTo>
                <a:lnTo>
                  <a:pt x="1499" y="16947"/>
                </a:lnTo>
                <a:lnTo>
                  <a:pt x="2030" y="17052"/>
                </a:lnTo>
                <a:lnTo>
                  <a:pt x="2825" y="16989"/>
                </a:lnTo>
                <a:lnTo>
                  <a:pt x="3331" y="16906"/>
                </a:lnTo>
                <a:lnTo>
                  <a:pt x="3486" y="16880"/>
                </a:lnTo>
                <a:lnTo>
                  <a:pt x="3698" y="16929"/>
                </a:lnTo>
                <a:lnTo>
                  <a:pt x="3789" y="16947"/>
                </a:lnTo>
                <a:lnTo>
                  <a:pt x="3941" y="16977"/>
                </a:lnTo>
                <a:lnTo>
                  <a:pt x="4135" y="16947"/>
                </a:lnTo>
                <a:lnTo>
                  <a:pt x="4289" y="16947"/>
                </a:lnTo>
                <a:lnTo>
                  <a:pt x="4220" y="16947"/>
                </a:lnTo>
                <a:lnTo>
                  <a:pt x="4233" y="16947"/>
                </a:lnTo>
                <a:lnTo>
                  <a:pt x="4164" y="16947"/>
                </a:lnTo>
                <a:lnTo>
                  <a:pt x="4088" y="16947"/>
                </a:lnTo>
                <a:lnTo>
                  <a:pt x="4064" y="16917"/>
                </a:lnTo>
                <a:lnTo>
                  <a:pt x="3997" y="16906"/>
                </a:lnTo>
                <a:lnTo>
                  <a:pt x="3927" y="16895"/>
                </a:lnTo>
                <a:lnTo>
                  <a:pt x="3844" y="16873"/>
                </a:lnTo>
                <a:lnTo>
                  <a:pt x="3789" y="16864"/>
                </a:lnTo>
                <a:lnTo>
                  <a:pt x="3452" y="16807"/>
                </a:lnTo>
                <a:lnTo>
                  <a:pt x="3068" y="16876"/>
                </a:lnTo>
                <a:lnTo>
                  <a:pt x="2748" y="16822"/>
                </a:lnTo>
                <a:lnTo>
                  <a:pt x="2654" y="16806"/>
                </a:lnTo>
                <a:lnTo>
                  <a:pt x="2535" y="16793"/>
                </a:lnTo>
                <a:lnTo>
                  <a:pt x="2457" y="16781"/>
                </a:lnTo>
                <a:lnTo>
                  <a:pt x="2359" y="16766"/>
                </a:lnTo>
                <a:lnTo>
                  <a:pt x="2258" y="16754"/>
                </a:lnTo>
                <a:lnTo>
                  <a:pt x="2165" y="16739"/>
                </a:lnTo>
                <a:lnTo>
                  <a:pt x="2097" y="16728"/>
                </a:lnTo>
                <a:lnTo>
                  <a:pt x="1971" y="16700"/>
                </a:lnTo>
                <a:lnTo>
                  <a:pt x="1957" y="16697"/>
                </a:lnTo>
                <a:lnTo>
                  <a:pt x="1732" y="16652"/>
                </a:lnTo>
                <a:lnTo>
                  <a:pt x="1473" y="16693"/>
                </a:lnTo>
                <a:lnTo>
                  <a:pt x="1249" y="16656"/>
                </a:lnTo>
                <a:lnTo>
                  <a:pt x="1140" y="16638"/>
                </a:lnTo>
                <a:lnTo>
                  <a:pt x="1110" y="16656"/>
                </a:lnTo>
                <a:lnTo>
                  <a:pt x="999" y="16656"/>
                </a:lnTo>
                <a:lnTo>
                  <a:pt x="1150" y="16656"/>
                </a:lnTo>
                <a:lnTo>
                  <a:pt x="1279" y="16631"/>
                </a:lnTo>
                <a:lnTo>
                  <a:pt x="1416" y="16614"/>
                </a:lnTo>
                <a:lnTo>
                  <a:pt x="1971" y="16547"/>
                </a:lnTo>
                <a:lnTo>
                  <a:pt x="2624" y="16585"/>
                </a:lnTo>
                <a:lnTo>
                  <a:pt x="3165" y="16656"/>
                </a:lnTo>
                <a:lnTo>
                  <a:pt x="3538" y="16705"/>
                </a:lnTo>
                <a:lnTo>
                  <a:pt x="3988" y="16570"/>
                </a:lnTo>
                <a:lnTo>
                  <a:pt x="4330" y="16697"/>
                </a:lnTo>
                <a:lnTo>
                  <a:pt x="4210" y="16697"/>
                </a:lnTo>
                <a:lnTo>
                  <a:pt x="4101" y="16702"/>
                </a:lnTo>
                <a:lnTo>
                  <a:pt x="4039" y="16739"/>
                </a:lnTo>
                <a:lnTo>
                  <a:pt x="4129" y="16784"/>
                </a:lnTo>
                <a:lnTo>
                  <a:pt x="4191" y="16811"/>
                </a:lnTo>
                <a:lnTo>
                  <a:pt x="4247" y="16906"/>
                </a:lnTo>
                <a:lnTo>
                  <a:pt x="4290" y="16979"/>
                </a:lnTo>
                <a:lnTo>
                  <a:pt x="4278" y="16987"/>
                </a:lnTo>
                <a:lnTo>
                  <a:pt x="4289" y="17072"/>
                </a:lnTo>
                <a:lnTo>
                  <a:pt x="4188" y="17085"/>
                </a:lnTo>
                <a:lnTo>
                  <a:pt x="4200" y="17109"/>
                </a:lnTo>
                <a:lnTo>
                  <a:pt x="4081" y="17114"/>
                </a:lnTo>
                <a:lnTo>
                  <a:pt x="3956" y="17119"/>
                </a:lnTo>
                <a:lnTo>
                  <a:pt x="3809" y="17084"/>
                </a:lnTo>
                <a:lnTo>
                  <a:pt x="3748" y="17072"/>
                </a:lnTo>
                <a:lnTo>
                  <a:pt x="2880" y="16897"/>
                </a:lnTo>
                <a:lnTo>
                  <a:pt x="1491" y="17407"/>
                </a:lnTo>
                <a:lnTo>
                  <a:pt x="750" y="17030"/>
                </a:lnTo>
                <a:lnTo>
                  <a:pt x="782" y="16990"/>
                </a:lnTo>
                <a:lnTo>
                  <a:pt x="785" y="16965"/>
                </a:lnTo>
                <a:lnTo>
                  <a:pt x="833" y="16906"/>
                </a:lnTo>
                <a:lnTo>
                  <a:pt x="894" y="16831"/>
                </a:lnTo>
                <a:lnTo>
                  <a:pt x="906" y="16832"/>
                </a:lnTo>
                <a:lnTo>
                  <a:pt x="916" y="16739"/>
                </a:lnTo>
                <a:lnTo>
                  <a:pt x="927" y="16637"/>
                </a:lnTo>
                <a:lnTo>
                  <a:pt x="887" y="16659"/>
                </a:lnTo>
                <a:lnTo>
                  <a:pt x="833" y="16614"/>
                </a:lnTo>
                <a:close/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3" descr=""/>
          <p:cNvPicPr/>
          <p:nvPr/>
        </p:nvPicPr>
        <p:blipFill>
          <a:blip r:embed="rId1"/>
          <a:stretch/>
        </p:blipFill>
        <p:spPr>
          <a:xfrm>
            <a:off x="407880" y="2249640"/>
            <a:ext cx="8139240" cy="73152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5" descr=""/>
          <p:cNvPicPr/>
          <p:nvPr/>
        </p:nvPicPr>
        <p:blipFill>
          <a:blip r:embed="rId2"/>
          <a:stretch/>
        </p:blipFill>
        <p:spPr>
          <a:xfrm>
            <a:off x="407880" y="2859120"/>
            <a:ext cx="865692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7" descr=""/>
          <p:cNvPicPr/>
          <p:nvPr/>
        </p:nvPicPr>
        <p:blipFill>
          <a:blip r:embed="rId3"/>
          <a:stretch/>
        </p:blipFill>
        <p:spPr>
          <a:xfrm>
            <a:off x="426960" y="3468600"/>
            <a:ext cx="7510680" cy="73188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8" descr=""/>
          <p:cNvPicPr/>
          <p:nvPr/>
        </p:nvPicPr>
        <p:blipFill>
          <a:blip r:embed="rId4"/>
          <a:stretch/>
        </p:blipFill>
        <p:spPr>
          <a:xfrm>
            <a:off x="407880" y="4078440"/>
            <a:ext cx="7529760" cy="121896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1143000" y="12193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InaiMathi"/>
              </a:rPr>
              <a:t>Is available out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304920" y="30492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What els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18"/>
          <p:cNvSpPr/>
          <p:nvPr/>
        </p:nvSpPr>
        <p:spPr>
          <a:xfrm>
            <a:off x="5257800" y="1066680"/>
            <a:ext cx="609480" cy="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9"/>
          <p:cNvSpPr/>
          <p:nvPr/>
        </p:nvSpPr>
        <p:spPr>
          <a:xfrm flipV="1">
            <a:off x="5865120" y="1068480"/>
            <a:ext cx="3240" cy="457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22"/>
          <p:cNvSpPr/>
          <p:nvPr/>
        </p:nvSpPr>
        <p:spPr>
          <a:xfrm>
            <a:off x="5562720" y="1523880"/>
            <a:ext cx="304560" cy="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ScholasticProfessio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yndiAndGoatHerder.jpg"/>
          <p:cNvPicPr/>
          <p:nvPr/>
        </p:nvPicPr>
        <p:blipFill>
          <a:blip r:embed="rId2"/>
          <a:stretch/>
        </p:blipFill>
        <p:spPr>
          <a:xfrm>
            <a:off x="6168960" y="2097000"/>
            <a:ext cx="1573200" cy="1798560"/>
          </a:xfrm>
          <a:prstGeom prst="rect">
            <a:avLst/>
          </a:prstGeom>
          <a:ln w="0">
            <a:noFill/>
          </a:ln>
        </p:spPr>
      </p:pic>
      <p:sp>
        <p:nvSpPr>
          <p:cNvPr id="85" name="Line Callout 1 (Border and Accent Bar) 7"/>
          <p:cNvSpPr/>
          <p:nvPr/>
        </p:nvSpPr>
        <p:spPr>
          <a:xfrm>
            <a:off x="5638680" y="3505320"/>
            <a:ext cx="274320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00" y="22898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638680" y="36576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ndara"/>
              </a:rPr>
              <a:t>Check it out: there’s even a Podcast tutorial on Podcasting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1:51:51Z</dcterms:created>
  <dc:creator>bruce.montgomery;Cyndi.Vander_Ven</dc:creator>
  <dc:description/>
  <dc:language>en-US</dc:language>
  <cp:lastModifiedBy>bruce.montgomery</cp:lastModifiedBy>
  <dcterms:modified xsi:type="dcterms:W3CDTF">2008-07-24T10:18:06Z</dcterms:modified>
  <cp:revision>126</cp:revision>
  <dc:subject/>
  <dc:title>Slide 1</dc:title>
</cp:coreProperties>
</file>